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E56-061C-4858-91C6-21899FA0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A40-731E-439F-8B59-DB0F73E2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C14-8B1E-4DFC-805A-23C9C5E9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820-B93B-4965-B756-285A20DA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E3A-A11A-4A79-98AD-1F42471E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55C-ED1C-4E32-B169-F8954F0C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8AF-1166-4E9C-8184-F0F565EC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174-DE58-4CAC-BF35-BA9DEF76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F8D-F0E0-4755-BDAC-9057F4FB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E22-C0E5-47D4-885B-4B38C666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305-0308-4F1C-BAF5-8421928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75C-0002-4244-9F5A-C0624722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FEC1-2AAA-4661-B8C6-7D4120D91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arm3.static.flickr.com/2223/2308602472_014fec9bef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affiliates.allposters.com/link/redirect.asp?item=3047533&amp;AID=876327&amp;PSTID=1&amp;LTID=2&amp;lang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Broadway"/>
              </a:rPr>
              <a:t>Burrrrrr… The Climate of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Alison Della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Aaron 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Broadway"/>
              </a:rPr>
              <a:t>Overall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  </a:t>
            </a: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The overall climate of Russia is cold… very cold. The land of Russia is covered in snow,ice,and a layer of frost called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Broadway"/>
              </a:rPr>
              <a:t>permafrost </a:t>
            </a: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in the tundra climate. Russia is covered in snow for 40-240+ days a year. Though the winter is cold and snowy, the summers are warm and rainy. The climate in Russia is like paradise… not. *cue laugh (hahaha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Broadway"/>
              </a:rPr>
              <a:t>Tundra Climate</a:t>
            </a: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      </a:t>
            </a:r>
            <a:r>
              <a:rPr b="0" lang="en-US" sz="3600" spc="-1" strike="noStrike">
                <a:solidFill>
                  <a:srgbClr val="66ccff"/>
                </a:solidFill>
                <a:latin typeface="Broadway"/>
              </a:rPr>
              <a:t>The definition of a tundra climate is a place where trees and growth (plants, animals, etc.) is prevented. Since a tundra climate consists of a cold temperature and little life , Russia is misfortunate to have this a part of their country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t. Basil's Christian Cathedral in Winter Snow, Moscow, Russ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Rain in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Summ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3:52Z</dcterms:created>
  <dc:creator> </dc:creator>
  <dc:description/>
  <dc:language>en-US</dc:language>
  <cp:lastModifiedBy> </cp:lastModifiedBy>
  <dcterms:modified xsi:type="dcterms:W3CDTF">2010-12-17T14:40:40Z</dcterms:modified>
  <cp:revision>3</cp:revision>
  <dc:subject/>
  <dc:title>Burrrrrr… The Climate of Russia</dc:title>
</cp:coreProperties>
</file>